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4312-844B-4DF6-A85E-29240A63210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4E27-22C6-4898-8ACE-02EC109C77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204E-BA7F-43B8-83F0-F01D2DDC8A6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E104-6B99-4231-B531-4C01E78FA36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2EE90-B899-4F61-8F18-675BF15CF1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C35801C6-841A-4264-99C5-718948E52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C1F7E293-5950-4F83-AF86-47D6FA2CEE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1A78334F-E92E-4567-AEBC-8DD9D7A7A7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C623FF6A-7BC7-410F-9486-1B8D50223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992E76-E339-4774-ADC9-AE1A4DAB7E2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407389CE-F2E9-4099-AE3E-1C77B1AB9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D2F23FEC-3B3F-4106-86BB-2D8BF2B3B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FFE39024-111B-4A28-B910-540318AEE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5666EE05-140D-4E31-8968-FCE739540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597C98DC-C886-44CF-9BC9-81FD1B733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20415C3C-1E66-48DA-92E4-90232F6B1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E5E6BBCB-6CE7-443B-B454-D7470B18A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61628B56-DE98-48BD-ABB1-4ED9083D2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3B61C69F-0251-4976-ADF8-A6BB89732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051FBCE2-4DDF-4AC3-88EB-35D54FA4C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33B10FCE-A9FD-4552-A727-9A028A29D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A1437748-8533-4B34-AC2F-ED7D715AA2A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CA199AF-B794-4D7E-A7ED-C2148DC504F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CC4B3D3-D823-4342-A60E-6C5BB56169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C820B03-A10B-4013-BE36-DAF06545CB5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A20FF44F-A75F-49E7-B9B6-981371104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BEC986E-5F6D-4FA3-B807-1DA60E6A377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06DF73A-2093-46D5-A81C-A3CB472B63F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414AB5C-1F15-4891-8AD5-93874736DFD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87610F-BF23-4247-8368-365D1077653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CA98D59-28A0-4D82-A72C-A1B57A9D66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B3C4EDA-D05C-4BC9-B036-FBB887336A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929975F-995B-4C32-9D0D-F93828F917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53562B8-C678-421D-9ED5-98441EF73C1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13F70BD-A810-4A90-B4D9-1F1DBE4B861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CF10CE5-4F0E-46FD-B2C9-882E6641A50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907CB7FD-D8B3-44D4-B8DB-D6DFC6DC1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1A11658-5B53-4B38-88E0-DCC5A8B2767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1E27A69-A344-45DA-B196-A3457EEE4E3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E99AFD4-EB05-4D99-B447-5450914C1F9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46ADC9E-37FF-44DE-8035-BBD0F3DD3AE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8C5969B-1727-4631-9156-0D395909ECB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7FD2368-29B7-4F9C-B0A7-62AE759AB98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84AB00E-52AF-4CD3-9E38-8B9EAEC1AD5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456DF96-F09F-47BA-8364-29C43ED63CB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050D664-E696-457E-B739-8CC8F4199B4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F8C9F95-EC54-4B7E-AD7B-EF5A5FBB981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AEB093C6-72D2-4D4C-8186-2E1DF467D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5B8AF9A-DB24-4B8C-B5F4-D9F2FC33B21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08840AE-1CBA-492B-8286-28008C2DF59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6B85F35-7F93-44FE-914A-006B0A64999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8A60147-FA8B-437F-A758-40549A01D3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16FC5F8-163A-4DE3-902B-A6109020F4B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96E7EB2-7E59-4490-B525-47AC772F599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0BED1E5-5563-46EB-BA22-5E34138690F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335C94D-AD35-400F-A348-B2CA192EF1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ACD25D0-47BA-4D40-BEDB-DFDA1C1556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12AF8FB-D035-40CC-90E5-4FF2314BBB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39257C4C-F318-4B35-8BF5-29F27FF6D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77551A3-6A56-4F0F-AD53-29D9193E8A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15057A2-6123-4D44-B5E2-BB49D74047E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0BFE36A-225C-46FA-86CB-E479C6EFBEB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086E23E1-A32B-4A22-BFC1-AF5086D5D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2417C567-1882-4B0E-9A74-A2E24D7CED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AB1C-BFE4-48FE-9968-3516B45771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0B22-47F7-4B04-BA67-AF33CDBCD1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4DE9-1CC4-4C33-88C1-9B371787FE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26C8-0883-4D43-9679-01C95AAD29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B562-646D-472F-A399-76F387E8F20C}" type="datetime">
              <a:rPr b="0" lang="zh-CN" sz="1000" spc="-1" strike="noStrike">
                <a:solidFill>
                  <a:srgbClr val="ffffff"/>
                </a:solidFill>
                <a:latin typeface="Verdana"/>
                <a:ea typeface="宋体"/>
              </a:rPr>
              <a:t>26/7/28</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5363-80DA-4448-B1EC-31B9554FAD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EB07-28D2-4700-953C-E9F47E47E84C}" type="datetime">
              <a:rPr b="0" lang="zh-CN" sz="1000" spc="-1" strike="noStrike">
                <a:solidFill>
                  <a:srgbClr val="ffffff"/>
                </a:solidFill>
                <a:latin typeface="Verdana"/>
                <a:ea typeface="宋体"/>
              </a:rPr>
              <a:t>26/7/28</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D5CB-9112-4892-B362-CB3CED53FDA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4197-6579-4EE2-B397-117E0C4603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D72C-8569-4BF7-A1C5-949D385905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5C1A-62C0-46B8-B29B-DDD392BB17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FCED-071D-4305-9088-1A7F6B7B04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3104-9AAD-4537-A7F2-E458C08FD9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1B52-2608-49B4-9CE5-390E6CFCD4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E931-916F-47DE-9585-6FAA25C964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4FA4-B719-441A-930F-AA15EAC2AD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2FEF-4163-4108-97B5-20542C03F7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34081-DD65-4434-82C2-11655E0FA3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5B36-F071-410D-A2C9-D0D0A99400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F011-F48D-49D6-B2E4-D013C37069F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B4FC-4E1A-41C3-B833-EEBB657945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DC6A-3A69-4D13-816A-42143FC411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F38C-32A2-401B-AFCD-A0AE243F83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A962-D4B2-4D51-851C-DD6E3BB759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DA50-8FB5-4FD3-B557-8E602DCA2F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F25C-F044-4083-8BA9-9442F9A2E7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4605-B916-4709-8A59-7A8479E17B8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6677-12D0-4688-960B-47CAC0CB3F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8DC5-8C82-466B-8C0C-3B7FC47FF2B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B974-1FF8-4E29-8FBE-0737D380E5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D5BD-FE44-4C03-B29F-3F8A55101F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56C9-0A65-41E2-8E71-064088D0B87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D176-C079-46A7-820C-376D751F1F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E3A4-4F0C-4F28-933A-ED4C93580D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0D2A-EDA8-440E-B8E7-1C929E3988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4445-2AF7-4A63-AF47-B1C23B439C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EBFE-0E49-4985-ACFA-A6ABC037D4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E1DF-F1BE-44B7-A84D-C87C91E705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3367-9D8F-42A1-B7A2-DDB3CDDFEB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D9F6-D550-438A-9C63-007AF73310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A4BD-62DF-4168-8B4F-A5CF6BD07E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52F7-1B90-4F27-A148-4386302BF6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A0A0-D136-4CD9-BC62-5E5308461E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CE0B-DB32-435D-A9D8-D1B076081A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8831-3016-4F7D-8910-FD7CF8DB0FA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DC3A-A95A-4DDD-8BA9-9F0C2CA109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3CB0-C14B-4467-B685-4018DB27DF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D737-0421-4A74-91D6-25F0C74853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72EC-ECC2-48C0-889E-551F16B9DC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7698-E186-4234-9583-2E58EB8C40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E14B-D201-4F1B-9FEC-88F97FA816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2908-BB5D-4EE6-A00E-9F8F57F726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8EF0-7806-4CC6-877C-A33A195009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E3D9-3464-440E-816B-92317D9509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C90B-1DC8-49FC-A4B6-DA4579C73CB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E43D-EEB7-4E24-AE98-FEACD6E087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DC99-3D84-4ED1-A2D5-F6F36DA296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EE87-A9FE-4ED4-B709-372D2F5896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6F13-ACF9-4F53-882A-30C6147C859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F940-A56D-4564-B38A-7F18B4A3AE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B8DF-4CA1-47B8-9C47-1FADB941ED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6913-25E1-4602-916F-4D2AF2EDEB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